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A86-A7DA-4463-AEFE-DC14F1EC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77B-26F5-452D-A7CF-FA4F9C7C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8C2-EB0D-4DE8-BF09-53F4AE56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3F8-2F44-4B94-B9A1-62C8B457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8CE-BCF8-416A-BD9E-0E08FF47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6BD-CEB3-4F2F-916C-38AFE4A5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676D-57C8-4474-B142-62982F5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67D-FE26-4610-945B-5852CBF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53BE-7A0D-4703-BB13-838D19F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082-C9FA-4002-87DE-16FD84C1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2E8-E673-4DEE-94DB-42AC155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D4F-3B7D-4A13-84B9-591E571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FEE9-A6F6-4476-A6B4-ED7CA68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4B39-D475-401F-AC13-8C5B22A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4E5B-B69C-4328-A51E-080A428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615-6974-4400-BAD2-9795972A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A8F-FEEC-419F-8BF9-14AC5569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9689-52CA-4A8F-B80D-79B99721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0F19-4E90-47EB-8019-CBAC927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C852-86FC-4DC5-A8C5-0EE0233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AC0D-01D2-422B-A46B-C0F4C864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0C4F-0762-4BE6-9DDD-0A53CBF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837-2E35-4A03-967A-AC106BB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80B0-80D5-4F34-B3E0-439B85F7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ECD5-EB53-403F-8CA5-6864BFE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74B4-9048-4925-A326-C8E804A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2D1F-DE14-44AD-A273-32B6BC0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533F-BB10-41EE-8EB2-92125DF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624C-A1EA-4578-8F48-0A63EE7F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FF24-C973-4659-AFE3-F3BC8657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1DE7-52FE-43B4-AD7A-A9408BE3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A123-316D-4072-B630-39979E9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3C1D-D71B-4FDB-B52B-2FF3F606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86D-F6EB-4050-893A-57EF432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34B0-8BF5-4A89-933A-AD0BF8A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64D3-2FC0-4BC5-A58D-A418842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C386-1C88-4851-AE6F-53B0C89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944F-73B1-4B2C-A8EF-139CC2E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3830-86D2-4AA1-BE9E-B524EA7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CD4C-3511-4FE3-B9E7-DCB3188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3A40-CC31-4AA1-96C0-717000BD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6583-E059-42DB-B595-E099EAB0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BA59-0B16-4F17-995F-A74A2011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701F-A4CC-4F4B-9384-728D6BAE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48F-4B40-416A-946F-8AE3679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4C21-7DC4-4BB8-9EE2-4FCA8D85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0AF75-2833-46AE-B854-94D4D2F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F8FF-8361-48F3-B0ED-23F691BD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0A31-334E-4D3E-8C94-B6A072A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44D6-9312-437E-A152-894E2C9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F196-6C7A-4C20-9B2A-1CFDA763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A91D-4261-4C6D-9C8C-78E492B5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27788-EC5A-44F2-866E-FA937CAF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4C8A-B394-47DD-9052-6FD6FFF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E234-D332-497B-B75C-37704D62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6B9-216D-42A3-BCD0-BBB91A8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392F-7ED8-4429-8E4D-3AAB575E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6AC5-1126-410D-8EC0-7E3F323A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64B9-F884-4633-8AEE-9EB03E6F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2E89-86D6-4797-B830-E756B97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EA47-9498-4244-8B18-6FFBB8D2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838B9-0C92-4A1C-B5D7-AB7EF002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6522-B000-45F7-957F-60C1A44A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EE9CD-4CB7-49A9-AE1A-F5E48C0C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6802-EE03-4A8C-8F90-179F628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DFAA-6714-4BCC-B4DB-02B161E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E2A-0717-43AD-94DE-02B9B09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8AC8-28D4-4A92-ADB2-BF4489E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D01C6-8AD5-47E5-A7CE-EF0DCE3A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2B9E-E634-45DF-A6B0-07098371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2830-95CA-450E-A5CB-FC3B72F3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5528-670F-413C-A0FE-0BE0B78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D48C-6D56-4F77-ABCE-F1BB4E87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39BE1-058A-4A52-A8AD-CA13D553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CBFF-D41C-47B8-9024-1A3FB61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7170-837E-4957-B133-9E9985D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0EB6-CB16-47A9-ABB2-624BF01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5BE-1EF7-43E6-866C-E63E650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8B283-AB63-4D28-8EE0-211967E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0CD7-A012-4092-A99F-77F756EE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8FF7A-BB59-40CD-95FD-57E08DE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B938D-1223-4101-9523-B25E2F43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AFD96-D342-4A63-971D-8ABC4BE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F37-07E6-474F-943C-2F0C991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73F-D4C0-4F4E-AC8F-78D07D450E8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3EC-BDBD-4443-8BE6-0BE782F1E59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C0A-59C1-4EED-838E-82415C26B0D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794-5C37-4032-9F2D-B4C6BF43495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07B-07B3-4CAD-B33C-D805E04D2E0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29F5-CB8D-4E08-AE5B-ADD7B3E0BE9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D94-0AE4-49BD-A88D-480407B2790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Tuesday, April 10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lease turn in your 1920s-1930s essay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rbel"/>
              </a:rPr>
              <a:t>HOMEWORK due Monday, 4/16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:  32.1-32.2 Study Guid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itler’s Lightning War &amp; Pearl Harb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 will be a quiz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36007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048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72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r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</a:rPr>
              <a:t>each of the six events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, read the information.  Decide which response option BEST FITS with your country’s foreign policy goals. Explain your choice beneath each ev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rcRect l="0" t="0" r="0" b="8859"/>
          <a:stretch/>
        </p:blipFill>
        <p:spPr>
          <a:xfrm>
            <a:off x="2543040" y="1523880"/>
            <a:ext cx="446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7165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1447920" y="1676520"/>
            <a:ext cx="6459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2705040" y="1523880"/>
            <a:ext cx="377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1219320" y="1523880"/>
            <a:ext cx="67341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934920" y="1523880"/>
            <a:ext cx="744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From Isolation to Involv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728640" indent="-60948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Quick Prezi introduction to the late 1930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ellow outline she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28640" indent="-60948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reign Policy Simulation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oals sheet (with tabl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6 countri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6 group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REE people in each grou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r group must have at least one girl and one bo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all I hear is “no” then I will decide groups agai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105520" y="2503440"/>
            <a:ext cx="3752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706680" indent="-5911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amiliarize yourself with your nation’s goals and motivations.  Fill in your box on the Foreign Policy char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06680" indent="-5911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epare a 30-60 second speech explaining your country’s Foreign Policy Objective in the 1930s and your reasons behind i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06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n-US" sz="2800" spc="-1" strike="noStrike">
                <a:solidFill>
                  <a:srgbClr val="f0ad00"/>
                </a:solidFill>
                <a:latin typeface="Corbel"/>
              </a:rPr>
              <a:t>Let it be known to the nations of the world that ____________ has the following foreign policy goals: ….  We stand by our goals for the following reasons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0" t="0" r="1978" b="0"/>
          <a:stretch/>
        </p:blipFill>
        <p:spPr>
          <a:xfrm>
            <a:off x="685800" y="1828800"/>
            <a:ext cx="7543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19320" y="1778040"/>
            <a:ext cx="64767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1247" t="1861" r="1558" b="1439"/>
          <a:stretch/>
        </p:blipFill>
        <p:spPr>
          <a:xfrm>
            <a:off x="1371600" y="19810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009800" y="1992240"/>
            <a:ext cx="6914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1208" b="1541"/>
          <a:stretch/>
        </p:blipFill>
        <p:spPr>
          <a:xfrm>
            <a:off x="914400" y="1828800"/>
            <a:ext cx="71629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23:24Z</dcterms:created>
  <dc:creator>Meri</dc:creator>
  <dc:description/>
  <dc:language>en-US</dc:language>
  <cp:lastModifiedBy>MCPASD</cp:lastModifiedBy>
  <dcterms:modified xsi:type="dcterms:W3CDTF">2012-04-10T18:41:18Z</dcterms:modified>
  <cp:revision>9</cp:revision>
  <dc:subject/>
  <dc:title>Event 1: Czechoslovakia Crisis</dc:title>
</cp:coreProperties>
</file>